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8CD06-4594-44CD-B74F-30A88128E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07D74-6596-4486-9B54-E57809422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51406-9233-4CCA-90F0-9FD1CD868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57BDF-BB0D-47B7-A3A9-3D5CBD254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47950-8B0B-415F-9703-2E29F65AC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64401-2981-4A5E-9893-B1B551299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C279C-9A14-48B7-987E-9B7433990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19585-5B6C-437E-9F8E-A9E03FA1D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681E9-DB6F-42C1-A9C0-ED116CFAE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1EEB4-4AB5-4885-85C2-3B096D237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12D86-34F0-4AEF-9D61-D32510C7B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12613-B02C-45DA-B859-DE5A8A421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C3400-52CE-414E-9C5D-2EC66B1F5B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Line 6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7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9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0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1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2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feld 1"/>
          <p:cNvSpPr/>
          <p:nvPr/>
        </p:nvSpPr>
        <p:spPr>
          <a:xfrm>
            <a:off x="503280" y="368280"/>
            <a:ext cx="75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used in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ica.Mechanics.MultiBody.Examples.Loops.PlanarLoops_analy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Otter, Martin</cp:lastModifiedBy>
  <dcterms:modified xsi:type="dcterms:W3CDTF">2012-10-06T04:39:44Z</dcterms:modified>
  <cp:revision>2</cp:revision>
  <dc:subject/>
  <dc:title>Folie 1</dc:title>
</cp:coreProperties>
</file>