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7D65-DE2A-45EE-90FE-55C606C989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8AF92-F088-4292-ABD6-36E3A8771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02F1-BF79-426B-9B6A-6182C09D1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61EDC-3965-4EB9-BAF3-9F3FC48222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7D389-9FA4-4DC9-9C40-D092DBC70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299F7-F12C-443E-88E6-6D24427F8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BA55A-6DD5-4685-8F3E-B3A0FA120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AF58-70D9-4DB8-A0B1-32A7B0A65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384E-8681-4CEA-B117-9F55DB0D7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5D43-C5B1-4C37-81B9-0FC71865F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74473-714D-4C6B-8662-B3D2406A7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7476-0815-4802-8045-1725C4182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FE5EF-D8F7-43E7-8821-457131E4A0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1" name=""/>
              <p:cNvSpPr txBox="1"/>
              <p:nvPr/>
            </p:nvSpPr>
            <p:spPr>
              <a:xfrm>
                <a:off x="3117960" y="3162240"/>
                <a:ext cx="18176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d>
                          <m:dPr>
                            <m:begChr m:val="‖"/>
                            <m:endChr m:val="‖"/>
                          </m:dPr>
                          <m:e>
                            <m:r>
                              <m:t xml:space="preserve">v</m:t>
                            </m:r>
                          </m:e>
                        </m:d>
                      </m:e>
                      <m:sub>
                        <m:r>
                          <m:t xml:space="preserve">p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</m:sup>
                              <m:e>
                                <m:sSup>
                                  <m:e>
                                    <m:d>
                                      <m:dPr>
                                        <m:begChr m:val="|"/>
                                        <m:endChr m:val="|"/>
                                      </m:dPr>
                                      <m:e>
                                        <m:r>
                                          <m:t xml:space="preserve">v</m:t>
                                        </m:r>
                                        <m:r>
                                          <m:t xml:space="preserve">[</m:t>
                                        </m:r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]</m:t>
                                        </m:r>
                                      </m:e>
                                    </m:d>
                                  </m:e>
                                  <m:sup>
                                    <m:r>
                                      <m:t xml:space="preserve">p</m:t>
                                    </m:r>
                                  </m:sup>
                                </m:sSup>
                              </m:e>
                            </m:nary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p</m:t>
                            </m:r>
                          </m:den>
                        </m:f>
                      </m:sup>
                    </m:sSup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1</m:t>
                    </m:r>
                    <m:r>
                      <m:t xml:space="preserve">≤</m:t>
                    </m:r>
                    <m:r>
                      <m:t xml:space="preserve">p</m:t>
                    </m:r>
                    <m:r>
                      <m:t xml:space="preserve">≤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31T23:39:49Z</dcterms:created>
  <dc:creator>Martin Otter</dc:creator>
  <dc:description/>
  <dc:language>en-US</dc:language>
  <cp:lastModifiedBy>Martin Otter</cp:lastModifiedBy>
  <dcterms:modified xsi:type="dcterms:W3CDTF">2004-01-31T23:59:16Z</dcterms:modified>
  <cp:revision>3</cp:revision>
  <dc:subject/>
  <dc:title>Folie 1</dc:title>
</cp:coreProperties>
</file>