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5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1020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AFC5523-72DE-4754-B2CD-1B2B9EE596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A5FB1F6-E22B-4753-844D-B686D3A88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92D1AE3-E8BF-478E-842B-EF6A6C2073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8835B2D-7A60-4E2A-952E-B2110944A9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4E47F67-CBDE-4B28-9333-2484DB23C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BC528B3-BDA7-4E92-9BD8-C013F94CC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6149A45-35D5-4CAE-BC67-D81D2299D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CEB8D8D-6FB3-48C0-93FD-071DACF5B3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9F34F55-1B15-4FAD-8D3A-7ACA596AD4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F6A319-7031-48F4-9AA7-B88A9D863C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AC2290F-E302-45CE-8F84-1A00423C9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F79720-AD82-4D8A-B0E7-075ADCCFDA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C4E4904-332C-4848-8BA3-5CC5680BA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EF8B903-C2A8-4F39-9FFE-820344EC8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82E28B8-06DA-4BDF-B8DB-518305A0F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E22595E-43BE-44B7-BFD6-91EFBB2A3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4B3BE34-D304-4263-A390-D59C2F404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FD0F110-3562-4DA8-AADB-4D670A158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4E70C2E-0CC5-4CE0-ACA5-241847248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CB775DB-972B-457E-9F4D-E17BC80303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D6427D1-5288-4DC7-83BC-ECFCD0C88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69F2627-D6D7-4985-86B1-7D0E2D123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8DCD81E-29EB-47A1-B8D6-7B024D9D6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32A403F-3390-45FC-8429-AC3B92F428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A91C1E7-F7F0-4405-A34C-AA60F4866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CD76E1A-A156-43B9-BF03-3A1C21DCE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BEFC8FA-4774-4E07-B0B5-3B7F99DA0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1A4D85E-1F67-4738-A73F-01C629CE65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D62BCDF-24D9-4A00-AC19-32B467ECDA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AF73DB5-402C-424F-9178-402D0666DC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80CC9DE-0E4A-450B-86E2-72541D504E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6A9598-7A71-4887-BC5A-12C266E52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7D7075D-5199-4B74-A348-B52C2BA636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652FCF7-F168-40D4-A2B1-70D836CB0C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E4F7-5968-46AF-82EA-C8D616A4E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5D64-0560-4A21-A360-9E2F55001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C876-D20B-47C3-9930-22964B1C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F653-262D-49D2-9988-99B9CAE75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8A12-CF04-4057-AC46-5C2ADE7E2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945D-1E00-4B55-BC77-DBAC7FF7F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7879-EEF0-494D-8223-CA61C6102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4187-18E6-47B0-8ED7-A7D0D2C65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4E0E-A419-4A6B-8D3E-8D49C4EB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3E4B-2557-43D9-9843-82C16CE03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032D-62C8-40BB-9AE1-C77EC8F34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09E2-DA86-484F-AAC3-FD6857653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7b1c15"/>
                </a:solidFill>
                <a:latin typeface="Optima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6CE-ADA6-4647-B524-5B96497884E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drpo@ida.liu.s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adrpo@ida.liu.s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09-10-1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61E-BD58-4D77-AF40-A0C368D316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6F7A-C945-426B-A557-6FB2F68DC16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ype or copy a simple model into an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Open the Eclipse view “OpenModelica console”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ulate with the simulate comman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plot with the plot command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CA7-870C-435B-9B73-6C512D4D75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BA19-4154-4A10-9694-0CFCFB512D7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6" name="Picture 4" descr="step04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FEC-00FA-4840-96D1-630323543C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 flipH="1" flipV="1">
            <a:off x="3995280" y="1915920"/>
            <a:ext cx="158436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601960" y="3357720"/>
            <a:ext cx="293904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0D3-F0FA-4AC4-8E54-FE27A9B43E1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4" descr="step05"/>
          <p:cNvPicPr/>
          <p:nvPr/>
        </p:nvPicPr>
        <p:blipFill>
          <a:blip r:embed="rId1"/>
          <a:stretch/>
        </p:blipFill>
        <p:spPr>
          <a:xfrm>
            <a:off x="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85E-A498-4272-B067-FD42154AB8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38" name="Line 5"/>
          <p:cNvSpPr/>
          <p:nvPr/>
        </p:nvSpPr>
        <p:spPr>
          <a:xfrm flipH="1">
            <a:off x="4572000" y="2133720"/>
            <a:ext cx="72072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13680" y="907920"/>
            <a:ext cx="50727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ve 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uild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H="1" flipV="1">
            <a:off x="2843280" y="4869000"/>
            <a:ext cx="1728720" cy="12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1619280" y="4869000"/>
            <a:ext cx="43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3320" y="5597640"/>
            <a:ext cx="26146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s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719-06CD-48A9-86D6-16B579CD0D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6" name="Picture 4" descr="step07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F79D-13F9-46D8-9885-108A88B1C7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executable from the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4" descr="step08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Line 5"/>
          <p:cNvSpPr/>
          <p:nvPr/>
        </p:nvSpPr>
        <p:spPr>
          <a:xfrm flipH="1" flipV="1">
            <a:off x="5724000" y="2349360"/>
            <a:ext cx="95580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50872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3079800" y="3068280"/>
            <a:ext cx="52200" cy="229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08000" y="5373720"/>
            <a:ext cx="22323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C9AE-76E0-48E2-BC36-5A68C80F54B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6" name="Picture 4" descr="step0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 flipH="1" flipV="1">
            <a:off x="5651280" y="2349360"/>
            <a:ext cx="124452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E8F4-6872-4974-8A30-1CCC608A63B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91" name="Picture 4" descr="eclipseplatform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4E97-86D0-4EDE-A51A-1C3F50FFCBA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1" name="Picture 4" descr="step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 flipH="1" flipV="1">
            <a:off x="2050920" y="2923920"/>
            <a:ext cx="1532160" cy="157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BFE7-E380-41A3-A65E-625DFE5D33E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6" name="Picture 4" descr="step1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Line 5"/>
          <p:cNvSpPr/>
          <p:nvPr/>
        </p:nvSpPr>
        <p:spPr>
          <a:xfrm flipH="1" flipV="1">
            <a:off x="971640" y="981000"/>
            <a:ext cx="1603440" cy="316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95EC-A0B9-478D-9384-2901270FDF8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1" name="Picture 4" descr="step1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617-176A-4685-81C7-5AFE99716A4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4" descr="step1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1763640" y="1341360"/>
            <a:ext cx="201636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5219640" y="1628280"/>
            <a:ext cx="36036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B79C-B18D-4CD9-B9B3-39D8C2984E0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1" name="Picture 4" descr="step14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 flipV="1">
            <a:off x="4448160" y="1483920"/>
            <a:ext cx="3579840" cy="301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85D-1D38-4CB4-85B6-4C022A09743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A9E-622F-4300-8758-966643BBABE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AC6-1B58-4946-B2CF-9137AA9869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194" name="Line 6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73412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F984-39F7-464B-B754-8A4CA4C031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- information about the exercise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s faster and better!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06C-B5B2-4048-8649-6FB98EC1BF9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2E7F-3D70-41DF-8560-741F3AD8927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8-11 – as samples of Prog. Lang. modeling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993B-6172-4B30-B72A-2EBAD79516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^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!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28D-98FD-45D5-9512-301987F9C2A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155-5233-4463-8265-6A9C7998188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SymbolicDerivative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FAB-3928-4299-A6C1-5F80F3C8E7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environment after it was augmented with the assignment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Assignment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594-2FC5-461E-BDAA-0AEF8DFA875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node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func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AssignTwoType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B68-62D7-4392-A3BA-B4D4B9D0225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B09-C1F0-40F4-9684-F73369F3CEC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polymorphic 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higher order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function that orders a list of any type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5BA-5428-4EED-891F-3CCE13B28C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ree functions that transform from: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real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str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real to string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009-5657-4279-8125-DBDE839B43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26C-DAAE-4587-B100-73BA389812B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06FF-8D3C-4026-9FC7-AF469F74893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B2B5-6CB6-4BD7-8938-E4FF6EA05C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2680" y="4428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96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 Just unpack and start working on your platform. (Windows, (Linux)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Bugzilla for bug report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6843-E508-4DD4-827D-53A6D2ADB3C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4E0-97F5-4227-842A-9B3A4511D0A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42E-9EF7-4F7A-8FEB-0463E31F816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4.5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–  OMNotebook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br>
              <a:rPr sz="3200"/>
            </a:b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1BE4-8995-4327-9681-748A52AD6CD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4.5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180 000 lines of MetaModelic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language including classes, functions, inheritance, modifications, import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0982-25A7-4E66-8CA1-3845ED12D1A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15C8-84F7-429D-8C80-07C3F45D0A0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3040" y="765000"/>
          <a:ext cx="8509320" cy="2173320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r" pos="3400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20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305-94D0-4B80-9A92-0FA2DB319CE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Windows – currently main development and release platform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Linux – also used for develop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ac - available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F66-B659-460F-B8B2-7E3B5511788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6119-2A42-4139-B920-57481A9E0B7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tarting the omc process if is not already start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2" marL="1119960" indent="-18648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starting is a bit different for Windows/Linux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nding commands to OMC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logging facilitie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</a:rPr>
              <a:t>developer pages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06D4-D4F6-4DEB-9070-813642CF6F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2" name="Line 8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C8FB-D5F5-4559-AFEE-8F14DA65EC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73" name="Oval 7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3274920" y="3499920"/>
            <a:ext cx="23767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1116000" y="1125360"/>
            <a:ext cx="295128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2A9A-FEAC-44DD-ACB2-2FCEBE8382C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What would you like to implement tomorrow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in the OpenModelica Compiler?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F9AE-2AB0-4D44-AA9D-D6D82DB8296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Picture 4" descr="step0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25AC-B7DC-4057-9849-758301EB32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8" name="Picture 4" descr="step02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0753-6514-4452-9EAA-FE9E6512419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Picture 4" descr="step0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ECCB-A842-4B3D-9452-CBCCC4176BE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